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3DD3C-E6A7-4A9B-B8D2-237F9A5B4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2261-F746-497A-8916-06A9351E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FC40A-7788-4A31-B978-510DA7B13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DF55B-0768-4CBD-B794-2E033A210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9B52F-4DC1-428C-B561-ADE7E3533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56FE6-5F69-4982-89C4-6238973FF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AFB4B-84E0-45DF-ADB4-906996162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5777E-769E-47FE-883C-AAC71596B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6EAB5-6664-4050-B3D5-7AEDD0B4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A6E43-70A4-4111-989A-72998E600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9251-0B97-494D-9C54-CF17AFBC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F7462-3771-42C4-A419-601B43BE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5625F-E61D-4C73-9266-56506EEFF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9D0C7-382A-4B35-A73E-5FB3591A6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E6FA9-A0B1-478D-8019-7D3EEADE9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B0EDC-174E-4356-B4C5-1151A5614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E61D7-7C34-4A3D-85CC-DE91B2BD0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4515-9A19-41EC-B4E7-0E19C2123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6B25E-6FFE-4B3F-8CA6-61869F8A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657D-EE52-4120-AD15-F2667E9E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96DC6-A303-4E8D-838C-9A741F48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B46B-6882-442B-9B98-348FCAF3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A465-D070-451C-A3F5-2555C38C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2D87-F0F0-4663-AF87-DA11A8858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1C53-E0BC-4109-A919-A277E68D820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3931-13CB-4E19-98BD-5E42C3A3658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GOLf2Rbxmz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HIDDEN JOURNEY</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NIT PROTFOLIO PRESENTATION</a:t>
            </a:r>
            <a:endParaRPr b="0" lang="en-US" sz="32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RA VANIA C. LUCAGBO</a:t>
            </a:r>
            <a:endParaRPr b="0" lang="en-US" sz="20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CAROLINE ROSE M. VALLES</a:t>
            </a:r>
            <a:endParaRPr b="0" lang="en-US" sz="20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ssessment Summary</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assessments used for this unit are all chosen to assist the process of global consciousness, cooperation, tolerance and creativity. This would further enhance what they have learned in the classroom and apply their experiences   to the real world. Hence, it will cater their abilities and capacities of each learner’s multiple intelligence where it develops them holisticall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quest for feedback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l throughout the unit implementation, the class teacher is and will be open for talks to each learner for their individual projects. Likewise as their group projects. The consultation will be announced in class every meet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Unit Summary</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world is rapidly changing; we experience weather disturbances and shortage of water that does not usually happen before. People in society blame one another with unwanted changes we experience that greatly affect our daily lives. Without looking into ourselves the part we have done in this changes that took place in our environment. The pupils in sixth grade will be able to grasp the value of water in their daily living. They will be able to contribute in some little ways that would create an impact to the environment and learn to give life to others.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FQ’S</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ssential question: Why is life dependent on nature? </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nit Question: How important is water cycle in our daily living?</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tent question: What is water</a:t>
            </a:r>
            <a:endParaRPr b="0" lang="en-US" sz="3200" spc="-1" strike="noStrike">
              <a:solidFill>
                <a:srgbClr val="ffcc00"/>
              </a:solidFill>
              <a:latin typeface="Arial Black"/>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cycle?</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w water cycle does</a:t>
            </a:r>
            <a:r>
              <a:rPr b="0" lang="en-US" sz="3200" spc="-1" strike="noStrike">
                <a:solidFill>
                  <a:srgbClr val="ffcc00"/>
                </a:solidFill>
                <a:latin typeface="Arial Black"/>
              </a:rPr>
              <a:t>	</a:t>
            </a:r>
            <a:r>
              <a:rPr b="0" lang="en-US" sz="3200" spc="-1" strike="noStrike">
                <a:solidFill>
                  <a:srgbClr val="ffcc00"/>
                </a:solidFill>
                <a:latin typeface="Arial Black"/>
              </a:rPr>
              <a:t>take place and its process?</a:t>
            </a:r>
            <a:endParaRPr b="0" lang="en-US" sz="3200" spc="-1" strike="noStrike">
              <a:solidFill>
                <a:srgbClr val="ffcc00"/>
              </a:solidFill>
              <a:latin typeface="Arial Black"/>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sion for Unit</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r this unit, it is expected that the Sixth grade pupil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e-requisite understanding on what Matter is abou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sic computer skills especially: Word, Power point, Multimedi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sic understanding regarding the bodies of wat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APPROACHES</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e a video presentation as an advocacy for water cycle group activit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pupil will make a collage using recycled materials in connection to water cycl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fter the tasks have been completed:</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Token econom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ulminating activity (showcasing what they have learned and skills that they have acquired during the lesson)</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MPLE: collage</a:t>
            </a:r>
            <a:endParaRPr b="0" lang="en-US" sz="4400" spc="-1" strike="noStrike">
              <a:solidFill>
                <a:srgbClr val="ffffff"/>
              </a:solidFill>
              <a:latin typeface="Arial Black"/>
            </a:endParaRPr>
          </a:p>
        </p:txBody>
      </p:sp>
      <p:pic>
        <p:nvPicPr>
          <p:cNvPr id="363" name="" descr=""/>
          <p:cNvPicPr/>
          <p:nvPr/>
        </p:nvPicPr>
        <p:blipFill>
          <a:blip r:embed="rId1"/>
          <a:stretch/>
        </p:blipFill>
        <p:spPr>
          <a:xfrm>
            <a:off x="685800" y="1295280"/>
            <a:ext cx="82296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mple: Advocacy Video</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http://www.youtube.com/watch?v=GOLf2Rbxmz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6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21</a:t>
            </a:r>
            <a:r>
              <a:rPr b="0" lang="en-US" sz="4000" spc="-1" strike="noStrike" baseline="30000">
                <a:solidFill>
                  <a:srgbClr val="ffffff"/>
                </a:solidFill>
                <a:latin typeface="Arial Black"/>
              </a:rPr>
              <a:t>st</a:t>
            </a:r>
            <a:r>
              <a:rPr b="0" lang="en-US" sz="4000" spc="-1" strike="noStrike">
                <a:solidFill>
                  <a:srgbClr val="ffffff"/>
                </a:solidFill>
                <a:latin typeface="Arial Black"/>
              </a:rPr>
              <a:t>  Century Learning </a:t>
            </a:r>
            <a:endParaRPr b="0" lang="en-US" sz="4000" spc="-1" strike="noStrike">
              <a:solidFill>
                <a:srgbClr val="ffffff"/>
              </a:solidFill>
              <a:latin typeface="Arial Black"/>
            </a:endParaRPr>
          </a:p>
        </p:txBody>
      </p:sp>
      <p:sp>
        <p:nvSpPr>
          <p:cNvPr id="3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ritical Thinking and Problem Solv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reativity and Innov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CT (Information, Communications and Technology) Literacy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ductivity and Account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eadership and Responsi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dia Literac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uriosity and Risk-tak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llabora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3:51:39Z</dcterms:created>
  <dc:creator>nave1386</dc:creator>
  <dc:description/>
  <dc:language>en-US</dc:language>
  <cp:lastModifiedBy>nave1386</cp:lastModifiedBy>
  <dcterms:modified xsi:type="dcterms:W3CDTF">2010-09-20T23:54:47Z</dcterms:modified>
  <cp:revision>4</cp:revision>
  <dc:subject/>
  <dc:title>THE HIDDEN JOURNEY</dc:title>
</cp:coreProperties>
</file>